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3EF7-0DE6-4CE2-945F-9D001E7A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3C2-1A0F-4684-AE28-1D0AB467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BC8-6C7C-491E-9C5B-8101EC4E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759-8D45-4E23-AEE1-6FB4C816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418-6D7F-4479-B88A-26F4F825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1E7-A80A-4792-B442-48B7D506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0F7C-9E20-4C67-98B8-51D5249F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929-19F6-4CDD-8380-C79CCBDA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D4C5-44F1-4010-90EB-DD83E9DF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BA62-C58A-40D0-97B3-4A7C84D6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4F3-EF12-4789-ABB8-478C3FBE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212-F474-4743-BD76-1191EF35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7380-0B31-4F10-81ED-5C8DD30B3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62120" y="6858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assroom Instr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90720" y="25909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be why classroom instruction is an important teacher behavior..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09480" y="6324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ed by W. Huitt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026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havioral Systems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32"/>
          <p:cNvSpPr/>
          <p:nvPr/>
        </p:nvSpPr>
        <p:spPr>
          <a:xfrm>
            <a:off x="990720" y="18288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methods have generally proved more likely to positively impact scores on standardized tests of basic skills than models in other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formation Processing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914400" y="160020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ocus of the methods associated with information processing approaches are more linked to concepts and principles developed in cognitive psychology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formation Processing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6002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 major models in this category a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3520" y="2590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oncept Attai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886200" y="2362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tegorizing information and concept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04920" y="365760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Inquiry Training/ Inductive Th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886200" y="350532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usal reasoning, interpretation of data, and formation of  principles and the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3886200" y="525780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influence of maturity on thinking and reas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990720" y="51814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Intellectual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formation Processing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838080" y="175248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y of the tests used to measure school learning are being modified so that they consider important mental processing skills that these models are designed to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ersonal Development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14400" y="16002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ocus of these models is on those outcomes held in high regard by humanistic educ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447920" y="25146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self-concept and self-esteem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447920" y="3048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itive self-direction and independenc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447920" y="3505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ivity and curios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447920" y="40384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evelopment of affect and emo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ersonal Development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6002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 major models in this category a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066680" y="251460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Facilitative 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886200" y="2362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fective orientation; based on methods of Carl Ro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066680" y="365760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Increasing Personal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86200" y="350532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cus is on developing an awareness and fulfillment of individual pot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886200" y="502920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cus on the development and application of crea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14300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Synec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026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ersonal Development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28"/>
          <p:cNvSpPr/>
          <p:nvPr/>
        </p:nvSpPr>
        <p:spPr>
          <a:xfrm>
            <a:off x="914400" y="1676520"/>
            <a:ext cx="7391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these models have not demonstrated an ability to impact outcomes associated with traditional education, they do show promise in impacting other outcomes important for the information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ocial Interactio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914400" y="160020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dels associated with the social interaction family are focused on developing the concepts and skills needed to work in group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ocial Interactio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16002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major models in this category a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33520" y="25909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ooperativ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886200" y="236232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ing in groups; based on the methods of Slavin and Johnson and John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09480" y="4495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ole pl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886200" y="41911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y and development of social behavior and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03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ocial Interactio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34"/>
          <p:cNvSpPr/>
          <p:nvPr/>
        </p:nvSpPr>
        <p:spPr>
          <a:xfrm>
            <a:off x="914400" y="167652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perative learning has demonstrated an ability to impact standard achievement measures as well as group inte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838080" y="18288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discussed previously, classroom teaching is composed of three separate, but interrelate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523880" y="38862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962520" y="3505320"/>
            <a:ext cx="48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tivities designed to get ready to interact with students in the class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14400" y="16002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st important point in this discussion of models of instruction is that each has been designed for a specific pur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14400" y="30481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used to obtain that purpose each model has demonstrated some superi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914400" y="41148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a rare model, such as facilitative teaching or cooperative learning, that adequately addresses purposes of more than one category of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914400" y="16002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the purpose of instruction is to have students score well on standardized tests of basic skills, I believe research affirms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95280" y="30481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asic model should be one of direct instr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295280" y="4038480"/>
            <a:ext cx="701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iques developed in the information processing models should be incorporated into this basic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14400" y="16002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the purpose of instruction is to have students score well on standardized tests of basic skills, I believe research affirms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295280" y="30481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ruction should be delivered using techniques advocated in facilitative teac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295280" y="403848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perative learning techniques should be incorporated as a part of guided and independent prac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14400" y="16002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the purpose of instruction is to have students score well on standardized tests of basic skills, I believe research affirms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295280" y="2971800"/>
            <a:ext cx="7467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some students are still not meeting academic expectations after these instructional techniques have been successfully implemented, additional time and alternative instructional methods should be provided using mastery learning strateg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14400" y="190512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critical to recognize tha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ster teacher model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where focus is put on individual teacher competence, demonstrate only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ER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elationships to student achiev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14400" y="1905120"/>
            <a:ext cx="7620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only through school-based or district-bas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stematic instruc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i.e., coordinated curriculum and programmatic implementation across grade levels) that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RO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elationships are established between school and/or classroom behavior and student achiev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838080" y="18288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discussed previously, classroom teaching is composed of three separate, but interrelate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37160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886200" y="38862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trolling student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838080" y="18288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discussed previously, classroom teaching is composed of three separate, but interrelate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523880" y="3886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886200" y="37339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rposely guiding student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838080" y="1828800"/>
            <a:ext cx="7467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critical as planning and management are to performing competently as a professional educator, quality instruction is absolutely necessary if students are to be successful in learning required content and ski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026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28"/>
          <p:cNvSpPr/>
          <p:nvPr/>
        </p:nvSpPr>
        <p:spPr>
          <a:xfrm>
            <a:off x="838080" y="17524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are a variety of ways to define quality instr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29"/>
          <p:cNvSpPr/>
          <p:nvPr/>
        </p:nvSpPr>
        <p:spPr>
          <a:xfrm>
            <a:off x="838080" y="312408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at instructional quality means that the desired goals and objectives have been obt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15"/>
          <p:cNvGrpSpPr/>
          <p:nvPr/>
        </p:nvGrpSpPr>
        <p:grpSpPr>
          <a:xfrm>
            <a:off x="914400" y="1600200"/>
            <a:ext cx="7391520" cy="4787640"/>
            <a:chOff x="914400" y="1600200"/>
            <a:chExt cx="7391520" cy="4787640"/>
          </a:xfrm>
        </p:grpSpPr>
        <p:sp>
          <p:nvSpPr>
            <p:cNvPr id="63" name="Text Box 3"/>
            <p:cNvSpPr/>
            <p:nvPr/>
          </p:nvSpPr>
          <p:spPr>
            <a:xfrm>
              <a:off x="914400" y="1600200"/>
              <a:ext cx="7391520" cy="47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Joyce and Weil (1996) describe four different categories of models of instruction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yce, B., &amp; Weil, M. (1996).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odels of teaching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(5th ed.). Englewood Cliffs, NJ: Prentice-Hall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4"/>
            <p:cNvSpPr/>
            <p:nvPr/>
          </p:nvSpPr>
          <p:spPr>
            <a:xfrm>
              <a:off x="990720" y="5257800"/>
              <a:ext cx="7162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Text Box 16"/>
          <p:cNvSpPr/>
          <p:nvPr/>
        </p:nvSpPr>
        <p:spPr>
          <a:xfrm>
            <a:off x="1447920" y="259092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havioral systems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1447920" y="3200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formation processing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1447920" y="3809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ersonal development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1447920" y="43434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ocial interaction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havioral Systems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914400" y="16002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ocus of the methods associated with this category is on observable skills and behavi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havioral Systems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914400" y="16002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major models in this category a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14400" y="274320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irect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886200" y="23623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ly structured, teacher-directed; maximization of student learning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914400" y="426708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astery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886200" y="388620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en enough time and quality instruction, nearly all students can master any set of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1T02:56:40Z</dcterms:created>
  <dc:creator>College of Education</dc:creator>
  <dc:description/>
  <dc:language>en-US</dc:language>
  <cp:lastModifiedBy>penny</cp:lastModifiedBy>
  <dcterms:modified xsi:type="dcterms:W3CDTF">2013-09-14T23:50:50Z</dcterms:modified>
  <cp:revision>25</cp:revision>
  <dc:subject/>
  <dc:title>Models of Instruction</dc:title>
</cp:coreProperties>
</file>